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0716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92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854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0716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92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85440" y="4654080"/>
            <a:ext cx="7162920" cy="41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0716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92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854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00716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92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85440" y="4654080"/>
            <a:ext cx="7162920" cy="41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lcome to Test Writing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676520"/>
            <a:ext cx="861048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 to    www.quia.com</a:t>
            </a: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 up for 30 day free trial.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81280" y="4191120"/>
            <a:ext cx="20574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st-Writing - Ste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23880"/>
            <a:ext cx="891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termine th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LEARNING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ARGETS </a:t>
            </a:r>
            <a:endParaRPr b="0" lang="en-US" sz="7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st-Writing - Ste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atch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type of test to the type of learning targe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638680" y="1447920"/>
            <a:ext cx="2743200" cy="4876560"/>
          </a:xfrm>
          <a:prstGeom prst="upArrow">
            <a:avLst>
              <a:gd name="adj1" fmla="val 50000"/>
              <a:gd name="adj2" fmla="val 44442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447920"/>
            <a:ext cx="2743200" cy="4876560"/>
          </a:xfrm>
          <a:prstGeom prst="upArrow">
            <a:avLst>
              <a:gd name="adj1" fmla="val 50000"/>
              <a:gd name="adj2" fmla="val 44442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43760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iginal Terms            New Ter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1752480"/>
            <a:ext cx="358128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buClr>
                <a:srgbClr val="c333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3314"/>
                </a:solidFill>
                <a:latin typeface="Arial"/>
              </a:rPr>
              <a:t>Creating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c333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3314"/>
                </a:solidFill>
                <a:latin typeface="Arial"/>
              </a:rPr>
              <a:t>Evaluating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c333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3314"/>
                </a:solidFill>
                <a:latin typeface="Arial"/>
              </a:rPr>
              <a:t>Analyzing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c333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3314"/>
                </a:solidFill>
                <a:latin typeface="Arial"/>
              </a:rPr>
              <a:t>Applying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c333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3314"/>
                </a:solidFill>
                <a:latin typeface="Arial"/>
              </a:rPr>
              <a:t>Understanding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c333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3314"/>
                </a:solidFill>
                <a:latin typeface="Arial"/>
              </a:rPr>
              <a:t>Remembering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07400">
            <a:off x="3580920" y="2133720"/>
            <a:ext cx="1752840" cy="457200"/>
          </a:xfrm>
          <a:prstGeom prst="rightArrow">
            <a:avLst>
              <a:gd name="adj1" fmla="val 50000"/>
              <a:gd name="adj2" fmla="val 95846"/>
            </a:avLst>
          </a:prstGeom>
          <a:solidFill>
            <a:srgbClr val="eaeaea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9867800">
            <a:off x="3581280" y="2285640"/>
            <a:ext cx="1752840" cy="457200"/>
          </a:xfrm>
          <a:prstGeom prst="rightArrow">
            <a:avLst>
              <a:gd name="adj1" fmla="val 50000"/>
              <a:gd name="adj2" fmla="val 95846"/>
            </a:avLst>
          </a:prstGeom>
          <a:solidFill>
            <a:srgbClr val="ff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34290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33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41911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a8756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50292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ed7c0b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586728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00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647712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33314"/>
                </a:solidFill>
                <a:latin typeface="Arial"/>
              </a:rPr>
              <a:t>(Based on Pohl, 2000, </a:t>
            </a:r>
            <a:r>
              <a:rPr b="1" i="1" lang="en-US" sz="1800" spc="-1" strike="noStrike">
                <a:solidFill>
                  <a:srgbClr val="c33314"/>
                </a:solidFill>
                <a:latin typeface="Arial"/>
              </a:rPr>
              <a:t>Learning to Think, Thinking to Learn, p. 8</a:t>
            </a:r>
            <a:r>
              <a:rPr b="0" lang="en-US" sz="1800" spc="-1" strike="noStrike">
                <a:solidFill>
                  <a:srgbClr val="c33314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819520" y="609480"/>
            <a:ext cx="3504960" cy="6248520"/>
          </a:xfrm>
          <a:prstGeom prst="upArrow">
            <a:avLst>
              <a:gd name="adj1" fmla="val 50000"/>
              <a:gd name="adj2" fmla="val 44569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9714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BLOOM’S REVISED TAXONOMY</a:t>
            </a:r>
            <a:br>
              <a:rPr sz="2000"/>
            </a:br>
            <a:br>
              <a:rPr sz="18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Creating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Generating new ideas, products, or ways of viewing things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Designing, constructing, planning, producing, inventing.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 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Evaluating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Justifying a decision or course of action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Checking, hypothesising, critiquing, experimenting, judging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 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 </a:t>
            </a: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Analysing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Breaking information into parts to explore understandings and relationships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Comparing, organising, deconstructing, interrogating, finding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 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Applying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Using information in another familiar situation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Implementing, carrying out, using, executing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 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Understanding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Explaining ideas or concepts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Interpreting, summarising, paraphrasing, classifying, explaining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 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Remembering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Recalling information</a:t>
            </a:r>
            <a:br>
              <a:rPr sz="1300"/>
            </a:br>
            <a:r>
              <a:rPr b="1" lang="en-AU" sz="1300" spc="-1" strike="noStrike">
                <a:solidFill>
                  <a:srgbClr val="c33314"/>
                </a:solidFill>
                <a:latin typeface="Arial"/>
              </a:rPr>
              <a:t>Recognising, listing, describing, retrieving, naming, finding</a:t>
            </a:r>
            <a:br>
              <a:rPr sz="1300"/>
            </a:b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14300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 rot="16200000">
            <a:off x="-1333080" y="2323800"/>
            <a:ext cx="3429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igher-order think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st-Writing - Ste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est Plan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st-Writing - Ste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rite/use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High-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Quality Questions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High-Quality Test Questions - Multiple Choi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 Handouts for Multiple Choice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ek Cheung paper (on screen; in wik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U Paper (on screen; in wik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High-Quality Test Questions - Other Selected Respons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523880"/>
            <a:ext cx="8610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ue-False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Answer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l-in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High-Quality Test Questions - Essa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ay (Extended Written Respon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st-Writing - Ste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r Test Quali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7920" y="4989240"/>
            <a:ext cx="658836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Test Writing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Arial Narrow"/>
              </a:rPr>
              <a:t>Presented by: Mike Zellmer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0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33314"/>
                </a:solidFill>
                <a:latin typeface="Arial"/>
              </a:rPr>
              <a:t>Franklin Summer Academ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3314"/>
                </a:solidFill>
                <a:latin typeface="Arial"/>
              </a:rPr>
              <a:t>June 16 - June 19, 200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brie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599840" y="5486400"/>
            <a:ext cx="71629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nks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rning Targe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appropriate combination of assessments to use throughout your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how to use a matching matrix to select appropriate assessments for learning targ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concepts and characteristics of high-quality test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how to use a test planning tool as a guide to creating balanced tests that reflect the weighting in the teaching of the unit or part of the un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 Addition.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understand the features and benefits of using an on-line tool for the construction and scoring of quizzes and te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sessment Timeline/P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7988040" cy="3112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sessment Plan - Templ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86000"/>
            <a:ext cx="8686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re-Assessment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ormative Assessments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Growth Assessments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Final Product Assessmen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sessment Plan - Templat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286000"/>
            <a:ext cx="868680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-Assess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mative Assess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owth Assessments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nal Product Assessment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352680"/>
            <a:ext cx="1218960" cy="76320"/>
          </a:xfrm>
          <a:prstGeom prst="rightArrow">
            <a:avLst>
              <a:gd name="adj1" fmla="val 50000"/>
              <a:gd name="adj2" fmla="val 399292"/>
            </a:avLst>
          </a:prstGeom>
          <a:solidFill>
            <a:srgbClr val="e1a06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514600"/>
            <a:ext cx="762120" cy="76320"/>
          </a:xfrm>
          <a:prstGeom prst="rightArrow">
            <a:avLst>
              <a:gd name="adj1" fmla="val 50000"/>
              <a:gd name="adj2" fmla="val 249646"/>
            </a:avLst>
          </a:prstGeom>
          <a:solidFill>
            <a:srgbClr val="e1a06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52480" y="4114800"/>
            <a:ext cx="1219320" cy="76320"/>
          </a:xfrm>
          <a:prstGeom prst="rightArrow">
            <a:avLst>
              <a:gd name="adj1" fmla="val 50000"/>
              <a:gd name="adj2" fmla="val 399410"/>
            </a:avLst>
          </a:prstGeom>
          <a:solidFill>
            <a:srgbClr val="e1a06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4876920"/>
            <a:ext cx="1371600" cy="75960"/>
          </a:xfrm>
          <a:prstGeom prst="rightArrow">
            <a:avLst>
              <a:gd name="adj1" fmla="val 50000"/>
              <a:gd name="adj2" fmla="val 451422"/>
            </a:avLst>
          </a:prstGeom>
          <a:solidFill>
            <a:srgbClr val="e1a06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acher-Made Test: Defini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defined, a teacher-made test is an evaluation tool designed by a teacher for his/her students that can be used at any point during a unit of study. Often the most instructionally relevant tests are those created by a teacher for a specific group of students to emphasize information important to the concepts taught” (Childs,1989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st Writing - Ste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reate a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SSESSMENT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03:30Z</dcterms:created>
  <dc:creator>PoweredTemplates.com</dc:creator>
  <dc:description/>
  <dc:language>en-US</dc:language>
  <cp:lastModifiedBy>Franklin</cp:lastModifiedBy>
  <cp:lastPrinted>2009-06-15T17:57:50Z</cp:lastPrinted>
  <dcterms:modified xsi:type="dcterms:W3CDTF">2009-06-15T19:01:46Z</dcterms:modified>
  <cp:revision>85</cp:revision>
  <dc:subject/>
  <dc:title>PowerPoint Template</dc:title>
</cp:coreProperties>
</file>